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EF8-6C90-45C5-9A51-AFFF84E6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CAA-8416-4FBC-B577-1585D763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28F-5424-4E95-8D1B-66EA5E46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688-2D78-4C38-A80F-4500DB2D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224-1506-4F8A-A382-20AC312B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FBA-21AA-41B7-9F19-64A9DB0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A9D-6359-40E1-A408-1440134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E59-A1ED-402D-8629-584A562C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C52-623B-46BE-A879-30023FE6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928-0857-4713-A44C-25D12FA8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3D4-B047-4080-8CC9-2A3DFC2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41A-1F95-4F2F-AB69-ED50E2C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42C0-BC07-4359-8F26-45915419C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287280"/>
            <a:ext cx="91440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Дълго лутах се в света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далеч от моя мил баща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Татко, Татко,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а ли сега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да се завърна у дома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776160"/>
            <a:ext cx="91440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Сине мой, погледни ме,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обичам те, прегърни ме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Ела, сине мой, Ела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Тук си при мен у дома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90720"/>
            <a:ext cx="914400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Жертва станах на греха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тебе, сине, да спася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Ела, сине мой,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А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з съм Твой баща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ела  при </a:t>
            </a:r>
            <a:r>
              <a:rPr b="1" lang="bg-BG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М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ене у дома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19080"/>
            <a:ext cx="91440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Мили </a:t>
            </a:r>
            <a:r>
              <a:rPr b="1" lang="bg-BG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т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атко, аз копне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любовта Ти да възпея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/Слава, мой Спасителю,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з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Arial"/>
              </a:rPr>
              <a:t>а тебе ще живея! /2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14:07Z</dcterms:created>
  <dc:creator>TrifonTrifonow</dc:creator>
  <dc:description/>
  <dc:language>en-US</dc:language>
  <cp:lastModifiedBy>TrifonTrifonow</cp:lastModifiedBy>
  <dcterms:modified xsi:type="dcterms:W3CDTF">2005-09-19T12:22:40Z</dcterms:modified>
  <cp:revision>4</cp:revision>
  <dc:subject/>
  <dc:title>Slide 1</dc:title>
</cp:coreProperties>
</file>